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5F577-0F6A-48A1-B6E7-D544413C5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1AC75-5F73-404D-8EB5-D91A4C387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BCF3F-DD9C-4464-B21C-C1990359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683E8-359B-490F-8F9B-7E29F0FE0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DD561-D5FD-4585-8CA9-482BB5039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501E8-1D7B-41BF-A37A-1821B5906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3FFB7-4879-4A06-94C4-F553C32D4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9E422-BF3B-44A7-9D50-C85C5DFE1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A70D5-985C-407A-835F-F812C1BFE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0A993-D9EF-498D-A6F0-52D417C85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E4295-C6A7-43DD-BB2A-96F6BD78B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4D9-B4EA-40E2-A209-3E9A0DCC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3F1-11DD-40DE-A10E-ED5CA0C9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7AA-CE8E-48A3-986B-FBF009A2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0E9-5FB6-471B-BF0F-79D5248A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48CF-4465-482C-A085-6D56C7A8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83F3-0431-4BDC-9C44-D5B4DF02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7425-3B27-4E4C-9A14-82EF7B35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3D2-513E-4D16-9DDC-E244E1CB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86B0-115E-4B65-9B41-086AFD2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5499-6789-45DB-A4D4-50B8CEE7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652-7B47-4359-8660-0F9291F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463-634C-4AD0-A0E9-6FDF51C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4AF-6C6C-4E85-8355-44BBB86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E7D1-90CA-4F8A-8DD2-029F0A84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57F9-81B3-4DA0-A57D-F0B00741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9DAD-1B8C-4333-A1D3-6DD96E67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F4B1-084B-43AD-BDC5-1241D427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D103-8DDF-4786-A096-5B2EBE27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EA3F-C8E7-49AA-8C58-0F6E6403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0D8B-48F6-4ED4-9239-4A128EAA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C498-131C-456D-ABCA-42CF454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FF92-2502-4925-B7AA-6BAACF2D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18A-83C7-498B-84B0-1FEC923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B81E-AF70-4B97-BD33-0F6BC25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885C-211C-444F-AB25-A3971EDD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6E02-CB2F-4783-B014-746EEA9B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5B66-39D3-4E32-B89C-40E8F12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1848-2C0D-4B0E-9229-46309B08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3ECAC-93E7-4A9B-91AE-CC7EE2BF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4C27-C73E-4317-9DA6-AC73F310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4670-BA74-4ED7-B418-6852B350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66A3-D48D-4536-8656-204369CC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0BB1-0D9B-4779-8E6B-E362D8D3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CDE-0D1E-43A5-A4FD-83B8598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B8EB-DD0F-4558-B47D-0F242B5E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089F-BF80-4BEF-B97E-7FEF4DBC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7884-5FD3-464C-857A-C078983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8EF9-D0A1-4D01-AAF3-68618BD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A180-76F7-44E1-9ECF-C8B93980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A5AF-35B4-4652-A84F-745B76A6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682D-368E-436E-A4FF-67EBE40C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195E-A5F1-4A53-85A1-E75B02ED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2781-6BB6-442C-BAEB-A343BC7E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3449-E50F-41CB-B2A9-AD459D38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3AE-2B21-40EF-8D4C-DEA8A99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4E7A-3B8C-40F3-B1AD-2B10911E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B1DF-31D8-40AD-A170-125E610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7785-62E6-4465-B513-E28FA95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593F-531C-4B10-97F6-E242CCEF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DEF5D-4F53-4C47-B59C-A58D16C2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093D-7A0B-49AF-A8FF-40A7BC0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A9EC5-BE02-4380-A562-22B1138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4810F-0BE2-4612-84E9-C9C6EFEA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111B-5BCA-42F2-ADE4-0E00F1B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4B84-5030-4050-959C-26A67F39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6DD-8449-43AC-9B5B-ADA71E7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875C-333B-4811-9296-842BF648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5CDD-8EF7-492B-9F94-76AF2A37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4DF3-9C12-4A0C-9110-1CF5B21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233D-479A-4D9B-B0C2-E60AA7F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FD47F-FD3B-49A0-8BF6-FC95562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A21F-E28D-4A9D-9A75-38E1FCE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DECB-169B-418F-B041-17E69BCB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4DD5-DFEC-491F-AE5B-A98AC6A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D4624-F1EA-4526-90CA-24763F5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D35E-8A26-4DA6-88D4-EF1C834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8E3-507F-4E53-B1BB-ABFE398A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10DA-127C-4C3C-982A-C2A08489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6A88-B2C1-446D-9888-8E6B672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5F78-BEF2-4D20-8C3F-6EA11805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8BDD3-B817-4472-AD5F-17DBE30F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B4D2-388C-4F72-85EF-F06052C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E1F1-744F-4D2D-A8F0-893BA43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44A1-A916-4939-BBEA-C6FBC2B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7F99-7BBF-4134-BA72-AAC40CE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AE32-1C8D-4299-8CE5-BEE089B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92D56-B6BB-49E0-899D-96C1E27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C1D-6E04-42F3-B8EA-2E1C7AB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29A5-9E43-4DD2-8744-CEFA76B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BED5-7563-48FF-8C7C-DDB93A6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9B1B-A76A-473E-84A6-A9B4FE2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C2554-59B7-4904-BF46-D9A0FD74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7510-8F97-41BC-9972-7D7CB126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2CB35-68CA-4EE2-9E02-80C8149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3531-2419-4EE7-9905-6707C598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489E-0456-476F-A1EB-1237E012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E1F02-A69B-4DB4-8227-D84DE907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BDCBA-40D0-4F13-BB0A-E60361A7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E60-9638-4385-8513-869DDEF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B5948-5920-4CB7-B3A0-3AFB8360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F26B3-18A0-4C38-BA54-6487A397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01DD-C75E-45FA-AAA2-94A0840C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6F62-77A3-4697-A735-58F4286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416EF-66C9-4999-919F-D349218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F70F-E815-43EF-9E7B-F8C35679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53FE9-1532-4E10-B725-8959F83C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D5C1F-1FC3-480D-AB39-0C195D4D89D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D7A53-8723-4333-8320-12A78E303A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61DC6-2E51-4A41-B836-BFB20D16C8B4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31995-18C8-42D0-B2DD-A2AD1A8A62A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7E216-A121-4DE7-BF3A-0F9357DD255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17E3B-19E8-4445-8486-94A1556B5A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D5B97-3F44-47E9-8AF3-8E9BA5EA697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89C94-C937-46DF-9A15-AFA31713F2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1D61B-5F4E-4D66-BFEF-6BDEEE291A8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79C39-207E-4891-A363-357ACD2F32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99376-3644-4672-A920-534861AE3F0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5EF0D-8858-4DF6-8547-79864F763F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38345-D41E-4447-92E8-E4990579E05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FE531-B6B5-4CD9-805F-4CA9ABB678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20B28-FFB4-4861-B4C9-3C79347D073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BCF15-20D6-4D6D-916F-A8CF1A0FE49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ilibustercartoons.com/nikit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archives.cnn.com/2000/US/03/31/cuba.boy.02/map.florida.cuba.miami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ventudrebelde.cu/UserFiles/Image/2006/agosto/fidel-castro/fidel-castro-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028840" y="960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o Now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the tips and tricks for analyzing a political carto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nalyze the meaning and symbols of the political cartoon on your worksheet. Be as detailed as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1026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925120" cy="109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28" descr="niki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960480"/>
            <a:ext cx="5205240" cy="55926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2568600" y="3096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607000" y="5532480"/>
            <a:ext cx="33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ain idea he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resident Kennedy announced that American warships would stop any Soviet ship carrying miss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3" descr="Armwrestling"/>
          <p:cNvPicPr/>
          <p:nvPr/>
        </p:nvPicPr>
        <p:blipFill>
          <a:blip r:embed="rId1"/>
          <a:srcRect l="2284" t="8038" r="8149" b="5741"/>
          <a:stretch/>
        </p:blipFill>
        <p:spPr>
          <a:xfrm>
            <a:off x="304920" y="925560"/>
            <a:ext cx="86835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nyt1"/>
          <p:cNvPicPr/>
          <p:nvPr/>
        </p:nvPicPr>
        <p:blipFill>
          <a:blip r:embed="rId1"/>
          <a:srcRect l="5900" t="3781" r="0" b="27016"/>
          <a:stretch/>
        </p:blipFill>
        <p:spPr>
          <a:xfrm>
            <a:off x="1066680" y="228600"/>
            <a:ext cx="777888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ult:  President Kennedy blockaded Cuba and forced the Soviets to remove the missiles.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5257800" y="17524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Leade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4" descr="1101610908_400"/>
          <p:cNvPicPr/>
          <p:nvPr/>
        </p:nvPicPr>
        <p:blipFill>
          <a:blip r:embed="rId1"/>
          <a:stretch/>
        </p:blipFill>
        <p:spPr>
          <a:xfrm>
            <a:off x="0" y="6480"/>
            <a:ext cx="5200560" cy="6851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522760" y="442800"/>
            <a:ext cx="3426120" cy="10051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5743440" y="3336840"/>
            <a:ext cx="32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Known F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s enthusiastic belief that Communism would triumph over capitalism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ikita"/>
          <p:cNvPicPr/>
          <p:nvPr/>
        </p:nvPicPr>
        <p:blipFill>
          <a:blip r:embed="rId1"/>
          <a:stretch/>
        </p:blipFill>
        <p:spPr>
          <a:xfrm>
            <a:off x="0" y="1440"/>
            <a:ext cx="4570560" cy="6856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4572000" y="0"/>
            <a:ext cx="4572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 found myself in the difficult position of having to decide on a course of action which would answer the American threat but which would also avoid war.  Any fool can start a war, and once he's done so, even the wisest of men are helpless to stop it-- especially if its a nuclear war.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944640" y="487440"/>
            <a:ext cx="75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lairMdITC TT Medium"/>
              </a:rPr>
              <a:t>Perspectives Activity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3880" y="22636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mebody Wanted t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ut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ba, Soviet Union,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139760" y="133200"/>
            <a:ext cx="6943680" cy="153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8520" y="2189160"/>
            <a:ext cx="5867280" cy="4476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6740640" y="345924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6969240" y="2614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JUST KEEP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MMING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0" y="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9, a young Fidel Castro led a communist revolution in Cuba, causing thousands of Cubans to flee to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fidel-castro-4">
            <a:hlinkClick r:id="rId1"/>
          </p:cNvPr>
          <p:cNvPicPr/>
          <p:nvPr/>
        </p:nvPicPr>
        <p:blipFill>
          <a:blip r:embed="rId2"/>
          <a:srcRect l="13233" t="2721" r="14682" b="10400"/>
          <a:stretch/>
        </p:blipFill>
        <p:spPr>
          <a:xfrm>
            <a:off x="5410080" y="914400"/>
            <a:ext cx="3025800" cy="548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young_castro_2"/>
          <p:cNvPicPr/>
          <p:nvPr/>
        </p:nvPicPr>
        <p:blipFill>
          <a:blip r:embed="rId3"/>
          <a:stretch/>
        </p:blipFill>
        <p:spPr>
          <a:xfrm>
            <a:off x="304920" y="914400"/>
            <a:ext cx="4122720" cy="54864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04920" y="6338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195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334120" y="6338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200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 of Pigs Invas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U.S. became worried as Cuba received increased amounts of aid from the Soviet Un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0" y="19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961, President John F. Kennedy approved of a plan by the CIA to overthrow Castro’s government with the help of Cub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Image:BayofPigs.jpg"/>
          <p:cNvPicPr/>
          <p:nvPr/>
        </p:nvPicPr>
        <p:blipFill>
          <a:blip r:embed="rId1"/>
          <a:stretch/>
        </p:blipFill>
        <p:spPr>
          <a:xfrm>
            <a:off x="0" y="328932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6367320" cy="4503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-1140480" y="612720"/>
            <a:ext cx="120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 Condensed"/>
              </a:rPr>
              <a:t>Why do you feel Cuban exiles were chosen to assist in this miss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exiles landed at the Bay of Pigs in Southern Cuba where they were easily defeated by Cuban forces, strengthening Fidel Castro and embarrassing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3" descr="castro-1"/>
          <p:cNvPicPr/>
          <p:nvPr/>
        </p:nvPicPr>
        <p:blipFill>
          <a:blip r:embed="rId1"/>
          <a:stretch/>
        </p:blipFill>
        <p:spPr>
          <a:xfrm>
            <a:off x="0" y="1374840"/>
            <a:ext cx="6664320" cy="5483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6629400" y="206856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del Castro, parading through the streets of Havana after his victory against Cuban expatriates in the Bay of Pigs invasion. (196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22120" y="87156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ships were sunk, including the ship that was carrying most of the suppli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planes that were attempting to give                air-cover were also shot down. Within 72hours all the invading troops had been killed, wounded or had surrendere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521000" y="49536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T SO GREAT </a:t>
            </a: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Results. . .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667400" y="3917880"/>
            <a:ext cx="3809880" cy="2793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743040" y="4344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idel watching the Bay of Pig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rom a tank near Playa Gr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0" y="4503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mericans, two of whom were eventually executed, are arrested in April 1961. They were accused by the Cuban government of smuggling guns to anti-Communist rebels a few days before the Bay of Pigs inva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4" descr="eeis_01_img0095%5B1%5D"/>
          <p:cNvPicPr/>
          <p:nvPr/>
        </p:nvPicPr>
        <p:blipFill>
          <a:blip r:embed="rId1"/>
          <a:stretch/>
        </p:blipFill>
        <p:spPr>
          <a:xfrm>
            <a:off x="1143000" y="179280"/>
            <a:ext cx="6946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181480" y="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uban            Missile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181480" y="121932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Union began to build missile bases in Cuba, worrying Americans that we were vulnerable to attac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uban_missile_crisis"/>
          <p:cNvPicPr/>
          <p:nvPr/>
        </p:nvPicPr>
        <p:blipFill>
          <a:blip r:embed="rId1"/>
          <a:stretch/>
        </p:blipFill>
        <p:spPr>
          <a:xfrm>
            <a:off x="0" y="0"/>
            <a:ext cx="51372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2:03:42Z</dcterms:created>
  <dc:creator>NYCDOE</dc:creator>
  <dc:description/>
  <dc:language>en-US</dc:language>
  <cp:lastModifiedBy>NYCDOE</cp:lastModifiedBy>
  <dcterms:modified xsi:type="dcterms:W3CDTF">2012-04-19T12:18:25Z</dcterms:modified>
  <cp:revision>3</cp:revision>
  <dc:subject/>
  <dc:title>Aim (L51):  How did the Cuban Missile Crisis increase Cold War tensions? </dc:title>
</cp:coreProperties>
</file>